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4F62-FE6E-49BE-B1DD-244E55AB14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78DB-0CB4-453B-B9CD-890FAF7E916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41F4-41D1-4CA8-BF7A-9E39EA5F216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242-85B2-4AF9-B93D-51B23A3135B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450C-E0DA-4456-B314-4385853341F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B1A4-6345-431D-BD6E-BD0B68AC0F0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E29D-7D57-4BFC-9B8A-6B82E060D3F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753B-B47C-4E05-8D9E-51914850A5B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6277-B3C9-45A0-BC2A-138513FE282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3034-8112-4C7C-96FF-C10B59EECDB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BE11-3282-40B3-B67C-C86419D5CEE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8E86-63D6-47B3-A8FB-395C00F95E3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A82E-A555-4C49-9BFA-8810C3B7A4B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3B2C-C406-4CB8-9F3E-3312FC90F7C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C0F-8AD3-415D-BF32-FA35C8DB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E81-E841-4A50-AC7B-7D683F37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BF4-5F22-4058-8745-3BE99081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C6E-AC2E-4570-9672-77AA815E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C6B-EBB9-4901-9FFE-5A4E6B59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A53-B2D7-4128-9B89-79667F74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388-FC06-4CE5-8496-186D8F5E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179-E28C-49DD-B4C8-2B71387E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AD6-5AC8-4DE9-BF40-A007E2E4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FDC-228B-4780-8475-367492BD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A8E-A5FB-4C5A-94C2-E905AD3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5AA-6627-43EE-989B-A86ABD2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2DCB-316E-46FB-9D6D-F0CC266F15FD}" type="slidenum">
              <a:rPr b="0" lang="zh-CN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未命名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240" y="3580920"/>
            <a:ext cx="5181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宋体"/>
              </a:rPr>
              <a:t>Angela Shi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宋体"/>
              </a:rPr>
              <a:t>VP of Stockholder Relation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宋体"/>
              </a:rPr>
              <a:t>Every supermarke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8" name="Picture 10" descr="11783879883757540130318504341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41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U1221P1T1D11980415F21DT20070108123042"/>
          <p:cNvPicPr/>
          <p:nvPr/>
        </p:nvPicPr>
        <p:blipFill>
          <a:blip r:embed="rId2"/>
          <a:stretch/>
        </p:blipFill>
        <p:spPr>
          <a:xfrm>
            <a:off x="4724280" y="1905120"/>
            <a:ext cx="4038840" cy="441936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宋体"/>
              </a:rPr>
              <a:t>Sales in major marke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57200" y="1935000"/>
            <a:ext cx="8229600" cy="4389480"/>
            <a:chOff x="457200" y="1935000"/>
            <a:chExt cx="8229600" cy="4389480"/>
          </a:xfrm>
        </p:grpSpPr>
        <p:pic>
          <p:nvPicPr>
            <p:cNvPr id="92" name="Text Placeholder 29" descr=""/>
            <p:cNvPicPr/>
            <p:nvPr/>
          </p:nvPicPr>
          <p:blipFill>
            <a:blip r:embed="rId1"/>
            <a:stretch/>
          </p:blipFill>
          <p:spPr>
            <a:xfrm>
              <a:off x="457200" y="1935000"/>
              <a:ext cx="822960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457200" y="1935000"/>
              <a:ext cx="8229600" cy="438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 advTm="2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bf5f9"/>
                </a:solidFill>
                <a:latin typeface="Calibri"/>
                <a:ea typeface="宋体"/>
              </a:rPr>
              <a:t>The overall profits</a:t>
            </a: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380880" y="1295280"/>
          <a:ext cx="8305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05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dbf5f9"/>
                </a:solidFill>
                <a:latin typeface="바탕"/>
                <a:ea typeface="宋体"/>
              </a:rPr>
              <a:t>New product</a:t>
            </a:r>
            <a:endParaRPr b="0" lang="en-US" sz="5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Picture 4" descr="2008623143824499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4386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宋体"/>
              </a:rPr>
              <a:t>Design for childre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宋体"/>
              </a:rPr>
              <a:t>With  vitamin C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宋体"/>
              </a:rPr>
              <a:t>Good for heal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宋体"/>
              </a:rPr>
              <a:t>Attractive packag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  <a:ea typeface="宋体"/>
              </a:rPr>
              <a:t>Thank you for watching         E-mail: angela@coca-cola.com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f5f9"/>
                </a:solidFill>
                <a:latin typeface="Century Gothic"/>
                <a:ea typeface="GungsuhChe"/>
              </a:rPr>
              <a:t>Company Information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Founded 1886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Great leader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Efficient Management team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宋体"/>
              </a:rPr>
              <a:t>Great Leade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63" name="Picture 29" descr="5846599"/>
          <p:cNvPicPr/>
          <p:nvPr/>
        </p:nvPicPr>
        <p:blipFill>
          <a:blip r:embed="rId1"/>
          <a:stretch/>
        </p:blipFill>
        <p:spPr>
          <a:xfrm>
            <a:off x="5257800" y="0"/>
            <a:ext cx="30481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0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308124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1" descr="00025745"/>
          <p:cNvPicPr/>
          <p:nvPr/>
        </p:nvPicPr>
        <p:blipFill>
          <a:blip r:embed="rId3"/>
          <a:stretch/>
        </p:blipFill>
        <p:spPr>
          <a:xfrm>
            <a:off x="5257800" y="4038480"/>
            <a:ext cx="3048120" cy="2571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xinsrc_5821102151107453282767"/>
          <p:cNvPicPr/>
          <p:nvPr/>
        </p:nvPicPr>
        <p:blipFill>
          <a:blip r:embed="rId4"/>
          <a:stretch/>
        </p:blipFill>
        <p:spPr>
          <a:xfrm>
            <a:off x="380880" y="1905120"/>
            <a:ext cx="4038840" cy="4419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바탕"/>
                <a:ea typeface="宋体"/>
              </a:rPr>
              <a:t>Management </a:t>
            </a:r>
            <a:br>
              <a:rPr sz="4400"/>
            </a:br>
            <a:r>
              <a:rPr b="1" lang="en-US" sz="4400" spc="-1" strike="noStrike">
                <a:solidFill>
                  <a:srgbClr val="dbf5f9"/>
                </a:solidFill>
                <a:latin typeface="바탕"/>
                <a:ea typeface="宋体"/>
              </a:rPr>
              <a:t>team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宋体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宋体"/>
              </a:rPr>
              <a:t>From  92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宋体"/>
              </a:rPr>
              <a:t>countri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宋体"/>
              </a:rPr>
              <a:t>Average age 37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9" name="Picture 6" descr="f4a088a234d563fa8efd8c9de6b5cfc7"/>
          <p:cNvPicPr/>
          <p:nvPr/>
        </p:nvPicPr>
        <p:blipFill>
          <a:blip r:embed="rId1"/>
          <a:stretch/>
        </p:blipFill>
        <p:spPr>
          <a:xfrm>
            <a:off x="4114800" y="762120"/>
            <a:ext cx="5029200" cy="609588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f5f9"/>
                </a:solidFill>
                <a:latin typeface="Calibri"/>
                <a:ea typeface="宋体"/>
              </a:rPr>
              <a:t>Big Markets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Everyone drinks Cok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Holidays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Sponsor famous star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2000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f5f9"/>
                </a:solidFill>
                <a:latin typeface="바탕"/>
                <a:ea typeface="宋体"/>
              </a:rPr>
              <a:t>Everyone drinks coke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4" name="Picture 19" descr="49645ed49188692e94b23"/>
          <p:cNvPicPr/>
          <p:nvPr/>
        </p:nvPicPr>
        <p:blipFill>
          <a:blip r:embed="rId1"/>
          <a:stretch/>
        </p:blipFill>
        <p:spPr>
          <a:xfrm>
            <a:off x="887400" y="1935000"/>
            <a:ext cx="3456000" cy="211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bd2e8d6144b6b25e122f5_m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226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12445f69e8fg214"/>
          <p:cNvPicPr/>
          <p:nvPr/>
        </p:nvPicPr>
        <p:blipFill>
          <a:blip r:embed="rId3"/>
          <a:stretch/>
        </p:blipFill>
        <p:spPr>
          <a:xfrm>
            <a:off x="838080" y="4205160"/>
            <a:ext cx="3505320" cy="2119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78bc74cf95fb4c69723f8ba157ebd99e"/>
          <p:cNvPicPr/>
          <p:nvPr/>
        </p:nvPicPr>
        <p:blipFill>
          <a:blip r:embed="rId4"/>
          <a:stretch/>
        </p:blipFill>
        <p:spPr>
          <a:xfrm>
            <a:off x="4648320" y="4205160"/>
            <a:ext cx="4038480" cy="211932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19f3412f34"/>
          <p:cNvPicPr/>
          <p:nvPr/>
        </p:nvPicPr>
        <p:blipFill>
          <a:blip r:embed="rId1"/>
          <a:stretch/>
        </p:blipFill>
        <p:spPr>
          <a:xfrm>
            <a:off x="6019920" y="-38088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bf5f9"/>
                </a:solidFill>
                <a:latin typeface="Calibri"/>
                <a:ea typeface="宋体"/>
              </a:rPr>
              <a:t>Holidays</a:t>
            </a: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80" name="Picture 6" descr="201001061005002125"/>
          <p:cNvPicPr/>
          <p:nvPr/>
        </p:nvPicPr>
        <p:blipFill>
          <a:blip r:embed="rId2"/>
          <a:stretch/>
        </p:blipFill>
        <p:spPr>
          <a:xfrm>
            <a:off x="0" y="1461960"/>
            <a:ext cx="7391520" cy="53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f5f9"/>
                </a:solidFill>
                <a:latin typeface="바탕"/>
                <a:ea typeface="宋体"/>
              </a:rPr>
              <a:t>Sponsor of famous stars</a:t>
            </a:r>
            <a:br>
              <a:rPr sz="4800"/>
            </a:b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82" name="Picture 4" descr="CAM7EXMR"/>
          <p:cNvPicPr/>
          <p:nvPr/>
        </p:nvPicPr>
        <p:blipFill>
          <a:blip r:embed="rId1"/>
          <a:stretch/>
        </p:blipFill>
        <p:spPr>
          <a:xfrm>
            <a:off x="533520" y="1295280"/>
            <a:ext cx="2438280" cy="487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00803020017111215[1]"/>
          <p:cNvPicPr/>
          <p:nvPr/>
        </p:nvPicPr>
        <p:blipFill>
          <a:blip r:embed="rId2"/>
          <a:stretch/>
        </p:blipFill>
        <p:spPr>
          <a:xfrm>
            <a:off x="3200400" y="1295280"/>
            <a:ext cx="59436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f5f9"/>
                </a:solidFill>
                <a:latin typeface="Calibri"/>
                <a:ea typeface="宋体"/>
              </a:rPr>
              <a:t>Great sales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7f0101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  <a:ea typeface="宋体"/>
              </a:rPr>
              <a:t>Every supermarket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  <a:ea typeface="宋体"/>
              </a:rPr>
              <a:t>The sales in main countri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  <a:ea typeface="宋体"/>
              </a:rPr>
              <a:t>The overall profit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2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22:38:49Z</dcterms:created>
  <dc:creator>hp</dc:creator>
  <dc:description/>
  <dc:language>en-US</dc:language>
  <cp:lastModifiedBy>999</cp:lastModifiedBy>
  <dcterms:modified xsi:type="dcterms:W3CDTF">2010-04-27T14:56:23Z</dcterms:modified>
  <cp:revision>35</cp:revision>
  <dc:subject/>
  <dc:title>Coca-cola</dc:title>
</cp:coreProperties>
</file>